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2D4D-5A5A-4540-BB4D-3CD4E8CAA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19A5-6307-471F-B40A-633858C2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48EB-0A38-4505-A959-956D75E84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AC49-2F72-4231-922B-17F4BD430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3B8E-B167-4F08-837A-B24786D4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C0A8-4F93-46D7-84AE-6FED8849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D11A-0B37-4459-B0EF-FCEE0616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DBFD-A155-46E6-A4BE-CBC91322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2915-8670-4E18-8C43-2D69AEDF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6C56-7778-46FE-96C4-BF7B5198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841C-0FD5-46A1-B52F-CAB0DEC9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9A84-F71D-4ACF-BF95-D4432A88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07E3-DC81-4FA0-BFA7-9D5FDF1A8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2-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3716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ogen = located on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he left of the periodic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17524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IME OUT!!! You said metals wer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on the left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22860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, but it belongs ther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because electrons are arranged by atomic # (# of protons) and it has 1 valence electron like others in Group 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00200" y="35053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is element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cts differently than all other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40384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ence Electrons = electrons that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re in the outer shell of the atom (elemen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4800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outer shell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is last energy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y are valence electrons import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144792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because they ar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what allows chemical reactions to take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236232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lements in a group shar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similar chemical properties because they have the same # of valence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32004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ropertie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not the same because the valence electrons not in the same shell/energy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39625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of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44956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1A =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lkali met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ll 1A elements have 1 valence e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lkali metals hav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1 valence elect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1295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very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re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17524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found only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in com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22096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ost familiar compound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is salt (NaC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28954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2A =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lkaline earth metals (2 valence e- for entire gro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3526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2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valance 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3886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etals harder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han those in group 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00200" y="43434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agnesium and calcium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re essential to biological life as well as human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3A =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Boron Fami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13716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3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valence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81080" y="18288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ost familiar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is Alumin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22860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bundant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metal in earth’s c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2819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4A = Carbon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32767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4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valence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5120" y="37339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ade up of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nonmetals, two metalloids, and me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42670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arbon most famili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472428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for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human life, because most of the compounds include carb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ilicon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next most familiar in carbon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14479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st abundant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element in earth’s c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19810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17524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5A =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Nitrogen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3880" y="22096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5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valence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2666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ontains metals,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nonmetals, and metallo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3880" y="31240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used in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fertiliz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36576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ssential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o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3880" y="41911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itrogen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most famili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19320" y="46483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6A =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Oxygen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51055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6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valence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oxygen most abundant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element in earth’s c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1371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ozone another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form of oxy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00200" y="17524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ade up of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nonmetals and metallo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21337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7A =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Halog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00200" y="24382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7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valence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28195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flourine and chlorin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most famili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32004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8A =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Noble g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35812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8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valence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40384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o odor and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no re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52578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eon most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famili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00200" y="449568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y no reactivity? Becaus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he outer shell is full=8 electrons, meaning it doesn’t lose or gain to be s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15:07:26Z</dcterms:created>
  <dc:creator>Farwell Area Schools</dc:creator>
  <dc:description/>
  <dc:language>en-US</dc:language>
  <cp:lastModifiedBy>Farwell Area Schools</cp:lastModifiedBy>
  <dcterms:modified xsi:type="dcterms:W3CDTF">2009-01-06T19:59:52Z</dcterms:modified>
  <cp:revision>17</cp:revision>
  <dc:subject/>
  <dc:title>Note Guide 5-3 </dc:title>
</cp:coreProperties>
</file>